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BB15-0EAF-4091-8506-801BA6FC5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7760" y="402084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73F9-FF48-463D-B6AD-5C82A1FC1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7600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2D4E-B1FC-4A98-BD8B-26AE19FCC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8024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1236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776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98024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1236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5560-D81F-4F1A-B55E-D42C79E69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57582-23B0-4531-81B5-5A9D1AC60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8BB8F-3275-4081-891B-BAC83057F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73BCD-7B84-4EC0-BF0A-181545294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B35FC-B0B0-4440-BE9F-FEA380A51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80409-0267-46AA-9257-D3A2431D4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8960" y="3805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EAF97-E2A7-441D-978A-D38100510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9A594-B9A5-4E46-B101-0147307B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09CA-E9D3-4418-A678-0899DFEE2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7600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098D7-F017-4459-A6A0-9D12E86C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6A3F5-C51A-421D-BF9A-251C65B6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7760" y="402084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08763-C494-418B-BC0B-8DEB37595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7600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3CDA5-C631-4492-86D5-119EC1702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8024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1236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776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98024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1236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57D70-DD56-4242-ACF9-CDEE44022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8BE5-2CFA-439A-82D2-081B55203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F076-268E-43F4-B3B0-89D37A511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967A-3C27-4157-A3A5-FD6787362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8960" y="3805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A10E-7CF0-4307-94F8-5BD726EB5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F9D1-E7B7-467A-8DD9-DFCE7624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7600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519B-046C-4CB4-A74A-2EFBC63E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B537-51D3-4DC6-B71D-B198249D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9943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3921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7899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7899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7899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327636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A4E8F-CE5B-4F50-869C-4B0F361D2416}" type="slidenum"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71440" y="1066680"/>
            <a:ext cx="579132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3720" y="6248520"/>
            <a:ext cx="3048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265D2-7317-4665-8EBE-CD38701FBC33}" type="slidenum"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437200" y="4114800"/>
            <a:ext cx="4082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Jarvis Lyn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th peri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hysical Scie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163480" y="0"/>
            <a:ext cx="398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ff04"/>
                </a:solidFill>
                <a:latin typeface="Times New Roman"/>
              </a:rPr>
              <a:t>Sea Level Foreca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629240" y="1600200"/>
            <a:ext cx="451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sheed called climate change “the most fundamental mor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llenge for humans in this century. The future of real people is on the line”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486320" y="1447920"/>
            <a:ext cx="4657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rning signs are already appearing, including high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des and coastal flooding, less rainfall and diminis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shwater supplies, as well as bleaching of some cor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efs that cradle Kiribati’s island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495680" y="1752480"/>
            <a:ext cx="4648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otantial hazards of rising oce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ause of climate change are not limited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course, to small tropical isla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267080" y="2362320"/>
            <a:ext cx="4876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man-induced climate change can l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sea level rise by heating of the oce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rfaces, causing the water to exp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thermal expansio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197240" y="1219320"/>
            <a:ext cx="4946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2007 IPCC report took an extremely conservative approach to potential sea level rise, focusing on thermal expansion. It estimat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t sea level increases could range from 0.2 to 0.6 meters by 21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6:12:35Z</dcterms:created>
  <dc:creator>PA Department of Education</dc:creator>
  <dc:description/>
  <dc:language>en-US</dc:language>
  <cp:lastModifiedBy>PA Department of Education</cp:lastModifiedBy>
  <dcterms:modified xsi:type="dcterms:W3CDTF">2009-05-22T16:31:45Z</dcterms:modified>
  <cp:revision>3</cp:revision>
  <dc:subject/>
  <dc:title>PowerPoint Presentation</dc:title>
</cp:coreProperties>
</file>